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8FD-B617-41B4-8E21-3CF34C732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56F-CB91-4805-A282-F55959E2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7FAC-00FB-4EE9-8B58-6A1C802F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Lipids/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4F8-E259-4ADC-99E0-03580A88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C61E-B994-4C80-BEE0-3D94EE22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53A-A4DD-41DD-B6EF-B91687D3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0355-BA13-4CD4-B885-6A9CD19B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6BD-F00C-4BF2-A71A-57655DBC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urses.washington.edu/conj/membrane/fattyacid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7330-2E2C-4DD1-AE1D-355A5F56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582-76FB-44CD-86C8-D137DB73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collin-s-biochemestry-flash-cards/deck/45274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3E2-96FD-4C0A-B690-6EEADB04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ch-19-lipids/deck/4414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553-F57D-4187-BA0C-24DE3C46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FEC-5588-46E1-84F8-44FD9DB0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E85-6C6A-4CAA-9D53-CAC7C7A4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783-4BA6-4190-BD5F-48CAAC57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pplementquality.com/news/fatty_acid_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5FB-43C4-48B5-AF59-975EE4BD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775-9EAE-42CD-9127-B2537BF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20E-5841-466E-923E-F643AED0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086-CD0D-4BF7-A727-7DACE02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42A-34DE-42ED-84C5-3300A39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952-2730-4A1D-8A1E-6C89265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128-C03A-4AB7-9F8A-4380E67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536-FBF1-474D-AE2B-898FF46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5DD-F9F6-403F-8B03-74D8B57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7BE-1A0C-4C50-B8CE-3A52E1D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FE1-B78C-4B96-85F2-8BADEB7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0FD-F45E-4C93-9635-20B45476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C45-75BA-4252-AD8E-C7B21B7A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3xF_LK9pnL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-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lycerol + 2 fatty acid chains + 1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end is polar and water-soluble, fatty acid end is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hospholipid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8" descr="phospholipid.jpg"/>
          <p:cNvPicPr/>
          <p:nvPr/>
        </p:nvPicPr>
        <p:blipFill>
          <a:blip r:embed="rId1"/>
          <a:srcRect l="0" t="-2813" r="0" b="-2813"/>
          <a:stretch/>
        </p:blipFill>
        <p:spPr>
          <a:xfrm>
            <a:off x="684360" y="620640"/>
            <a:ext cx="7773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asmamembranefigure1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based multiple-r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hormones such as estrogen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Cholesterol_structure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Testosterone_structure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chain fatty acids linked to alcohols/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as water-proof coating for plant leaves, animal feat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mage004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f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1_01_junkfood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5" descr="fattyacid.png"/>
          <p:cNvPicPr/>
          <p:nvPr/>
        </p:nvPicPr>
        <p:blipFill>
          <a:blip r:embed="rId1"/>
          <a:srcRect l="-17255" t="0" r="-1725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type of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3xF_LK9pn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glyceride"/>
          <p:cNvPicPr/>
          <p:nvPr/>
        </p:nvPicPr>
        <p:blipFill>
          <a:blip r:embed="rId2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reac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dehydration_synthesis_of_a_lipid1353379432885.png"/>
          <p:cNvPicPr/>
          <p:nvPr/>
        </p:nvPicPr>
        <p:blipFill>
          <a:blip r:embed="rId1"/>
          <a:srcRect l="0" t="-18210" r="0" b="-1821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3" descr="05_10bfatsynthstructure-l1326653942598.jpg"/>
          <p:cNvPicPr/>
          <p:nvPr/>
        </p:nvPicPr>
        <p:blipFill>
          <a:blip r:embed="rId1"/>
          <a:srcRect l="-16502" t="0" r="-165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rans fat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rans-fat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ega 3 &amp; 6 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mega3and6"/>
          <p:cNvPicPr/>
          <p:nvPr/>
        </p:nvPicPr>
        <p:blipFill>
          <a:blip r:embed="rId1"/>
          <a:stretch/>
        </p:blipFill>
        <p:spPr>
          <a:xfrm>
            <a:off x="685800" y="2021040"/>
            <a:ext cx="77724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4T11:04:38Z</dcterms:modified>
  <cp:revision>151</cp:revision>
  <dc:subject/>
  <dc:title>Organic Chemistry</dc:title>
</cp:coreProperties>
</file>